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B9E-3547-4C11-BA04-C1FD628F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199-E5C5-4E63-A824-8D61DB2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1E8-5610-40E4-8C9E-15CDB3A7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8A0-18C1-4164-8F93-8D5E636B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2270-8131-43F4-AC26-72D069B1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AFCB-FCED-4E28-942D-4C0B13C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4BA8-0AAF-4B24-AA71-21636379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3051-9E83-46DA-8C6F-9DC41354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D05-ACA0-4007-BD82-1C5B957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FC17-8817-47F4-8079-BB23B274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3725-EBFA-48E1-899D-C0AE1EB9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273-BE09-480A-AB8A-53E7511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CEC-40AD-4CC4-AD35-DEB8EE8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767-4A82-4FC2-BCBA-19A1433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3440-C252-4294-B616-863F0EE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925-E098-4915-94D5-6A8592A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FFFE-33BE-45D6-BD37-90DBC9BC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01E-7272-4C3E-BE07-B90BE8B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447-E395-475E-AC16-544AAC2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1EC-E08C-46CF-9C11-0DA0EE8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3A6-7A00-4ACA-B8B9-FCED49AB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A97-54F1-4F81-8699-C607A17E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C76-63FD-465C-9F3E-B4CEB2A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AB9-6FA0-474F-924F-E95E28E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A412-552A-4F73-AFC9-6E34A4ACD7E0}" type="slidenum">
              <a:rPr b="0" lang="pl-P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FF6-7734-468E-A367-63F5DD0480DD}" type="slidenum">
              <a:rPr b="0" lang="pl-P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a Stolarczy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je o czasie powstania zakonów i diecez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szawska, diecezja (katol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yg. 17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ratorki Krwi Chryst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tnieje od 1834 r., w Polsce od 1946 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zewnictwo biegów rz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ra, Dol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lna Od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S  Odra (rze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ra, Dolna (doli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lnej Odry, d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S   Odra (doli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ra (dol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der (dol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dry, do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S   Doliny - Pols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  Krzesiński Park Krajobrazow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ra, Dolna (dol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ra, Górna (dol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ra, Środkowa (doli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k Krajobrazowy Dolina Dolnej Od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spół przyrodniczo-krajobrazowy "Wielikąt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oblemy kształtowania kompleksów gospodarczych w strefie środkowej Odry / pod red. Bolesława Winiarskiego – Warszawa, 19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ra, Środkowa (dorzecze) - gospodar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chrona rybitw w Dolinie Górnej Wisły / [aut.: Mateusz Ledwoń, Jacek Betleja]. – Oswięcim,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bitwy – ochrona - Pol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ła, Górna (dolina) – fauna - ochr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wódź w dorzeczu górnej Wisły w lipcu 1997 roku : konferencja naukowa w Krakowie, 7-9 maja 1998. – Kraków, 19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ódź - zapobieganie i zwalczanie - materiały konferencyj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ódź – Polska - 1997 r. - materiały konferencyj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łopolska - klęski elementarne - 1997 r. - materiały konferencyj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sła, Górna (dorzecze) - klęski elementarne - 1997 r. – materiały konferencyj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ska Południo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ska Zachod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łochy Północ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cja Zachod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ska Południo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olska - część południo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S    Pol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kręgi rolnicze Polski Zachodniej i Północnej w pierwszej połowie XIX wieku / Julian K. Jancz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ska Północna – rolnictwo - 19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ska Zachodnia – rolnictwo - 19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łochy północne / Bernhard Abend. – Bielsko-Biała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łochy Północne - przewod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kreślnik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zęść południo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zęść północ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zęść wschod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zęść zachod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iany postaci hase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yka zawodow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awód - ety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emysł maszynow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szyny - przemys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cje młodzieżo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łodzież – organizac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SRR - część zachod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SRR - część europej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yka Południowa – część północ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zwy ulic i placów w miejscowościach, których przynależność państwowa uległa zmi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ocław (woj. dolnośląskie) –  Schweidnitzer Straß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ocław (woj. dolnośląskie) – ulica Świdnic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wów (Ukraina) - ulica Akademic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obecnie Prospekt Szewczenk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zczecin : ulica - miasto : Karkutschstrasse - ul. Św. Wojciecha : historia i współczesny wizerunek miasta widziany z perspektywy jednej ulicy / red. Joanna Kozakowska. – Bydgoszcz, 199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zczecin (woj. zachodniopomorskie) – Karkutschstrasse - ikonograf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zczecin (woj. zachodniopomorskie) - ulica św. Wojciecha – ikonograf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zwy siedzib instytuc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rszawa - Muzeum Narodowe (budyn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K  Muzeum Narodowe (Warszaw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wów (Ukraina) - Teatr Wielki (budyn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ów (Ukraina) - Teatr Miejski (budyn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K    Teatr Wielki (Lwów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maty geograficz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rszawa - pałac Jabłonowsk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szawa - ratusz (1818-19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rszawa pałac Mostowsk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szawa – Komenda Stołecz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ilicji Obywatelskiej (budyne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szawa – Komenda Stołecz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olicji (budyne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ystyk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ystyka – stosowanie – bibliotekars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bliotekarstwo – statystyka – met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ystyka – stosowanie – rolnic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nictwo – statystyka - met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ysty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ologia - statysty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iostatysty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tystyka – stosowanie - biolo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    Biologia - metod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se - statysty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tystyka finansow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tystyka – stosowanie - fina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S    Statystyka gospodarc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ysty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yjątk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ystyka gospodarc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ystyka matematycz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ystyka medycz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ystyka ubezpieczeniow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ysty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iostatystyka : wykorzystanie metod statystycznych w pracy badawczej w naukach biomedycznych / Cezary Watała. – Bielsko-Biała, 20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a – statystyka – metody - podręcz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unek prawdopodobieństwa – stosowanie – biologia - podręcz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ysty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lementy statystyki dla historyków / Andrzej Burzyński. – Kraków, 19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ystyka - podręcznik akademic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iografia – metodologia - podręcznik akademic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ybrane elementy statystyki dla potrzeb rachunkowości / Halina Wasilewska-Trenkner. – Warszawa, 19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hunkowość – metody - podręczn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ystyka – metody - podręczn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hy i organizacje robotnic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rganizacje robotnic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obotnicy – organizac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uch robotnic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uczanie języków obcy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kreślnik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oziom podstawow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oziom średnio zaawansow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oziom zaawansow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uczanie języków obcy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ngielski w cztery tygodnie : kurs podstawowy /|cMałgorzata Głogowska, Alan Cook. – Warszawa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ęzyk angielski – poziom podstawowy - podręcz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uczanie języków obcy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iemiecki. 2, Średnio zaawansowany [Dokument elektroniczny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ęzyk niemiecki - poziom średnio zaawansowany – podręcznik – dokument elektronicz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uczanie języków obcy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Z Wrocławiem w tle : zadania testowe z języka polskiego dla cudzoziemców : poziom zaawansowany C2 / Anna Dąbrowska [et al.]. – Wrocław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ęzyk polski - poziom zaawansowany - ćwiczenia i zad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ęzyk polski - poziom zaawansowany - podręcznik dla cudzoziemcó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łodzież szkolna, Uczniowie, Nastolatk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łodzież szkol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…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   Uczniowie gimnazjó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 klas początkow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 szkół podstawow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 szkół średn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 szkół ponadgimnazjaln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 szkół specjaln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czniowie szkół zawodow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łodzież szkolna, Uczniowie, Nastolatk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stolat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S  Młodzie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K  Uczniow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łodzież szkolna, Uczniowie, Nastolatk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stolatki - rozwój fizycz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stolatki - antrop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E  Uczniowie – rozwój fizycz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czniowie – antrop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hy i organizacje chłopsk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łopi - organizac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rganizacje chłopsk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rganizacje ludo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uch ludow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uchy i organizacje ludo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uch robotniczy na ziemi rzeszowskiej 1918-1975 / Warszawa, 19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hy i organizacje robotnicze – Polska - 20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zeszów (woj. podkarpackie ; okręg) – polityka – organizacje - 20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olityka oświatowa stronnictw ludowych w Polsce w latach 1918-1932 / Mieczysław Pietrusiewicz. – Słupsk, 198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chy i organizacje chłopskie - a oświata – Polska - 1918-1939 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świata – polityka – Polska - 1918-1939 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h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zpieczeństwo i higiena p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ZP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olska Zjednoczona Partia Robotnic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zepisy kulinar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chnia arab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chnia ślą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chnia regional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chnia klaszto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rawy szybkie i łat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iady, Śniad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HP BN - nowe tematy, nowe ustalenia metodycz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syłacze do nazw bit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twa 480 r. p.n.e. pod Termopi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itwa pod Termopilami (480 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.n.e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twa 1380 r. na Kulikowym Po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itwa na Kulikowym Polu (138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4:02:20Z</dcterms:created>
  <dc:creator>a.stolarczyk</dc:creator>
  <dc:description/>
  <dc:language>en-US</dc:language>
  <cp:lastModifiedBy>a.borowska</cp:lastModifiedBy>
  <dcterms:modified xsi:type="dcterms:W3CDTF">2009-06-01T06:13:41Z</dcterms:modified>
  <cp:revision>43</cp:revision>
  <dc:subject/>
  <dc:title>JHP BN nowe tematy, nowe ustalenia metodyczne</dc:title>
</cp:coreProperties>
</file>